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76A-6C97-475E-967B-E4C87B0E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63D-2F11-4870-B864-CED4F0A4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0B8-9AE9-4A37-BA77-A99472AF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349-F51D-402B-A176-F034EC00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00C-A9AF-48CC-8A99-350590FA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89A-CF1C-4D7D-9DCB-91E356A4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81F-6855-4B53-BACE-D4356860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516-E1AF-4326-9673-807C1A5E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519-31CC-456F-B10C-5D1DD9F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161-F111-48A0-B8B8-8A997CF4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E85-8716-4066-A034-C55214F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A37-5DD4-4D1A-BF27-AC666D2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387-DAB8-486F-98CC-6C3EF823C741}" type="slidenum">
              <a:rPr b="0" lang="ca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7200" spc="-1" strike="noStrike">
                <a:solidFill>
                  <a:srgbClr val="ffffff"/>
                </a:solidFill>
                <a:latin typeface="comic"/>
              </a:rPr>
              <a:t>COMPOSTING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14440"/>
            <a:ext cx="64008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Magalí Zorraind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Calibri"/>
              </a:rPr>
              <a:t>What is composting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Compost is applied complex microbiology, with interactions of thousands of different species of micro organisms organized inside a really complex ecosystem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ffffff"/>
                </a:solidFill>
                <a:latin typeface="Arial"/>
                <a:ea typeface="Arial"/>
              </a:rPr>
              <a:t>Compost have organic matt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Composting process kills weed seeds and deletes human and plant pathogens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ctivities to green th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In my school there are recycling bins to recycle cardboard and paper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re is a bin to recycle batteries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re are some solar panel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Calibri"/>
              </a:rPr>
              <a:t>Activities to green th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y could include a green zone in the school yar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y could put a recycling bin for the bottl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ey could employ recycled paper to do the photocopies that we u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9600" spc="-1" strike="noStrike">
                <a:solidFill>
                  <a:srgbClr val="ffffff"/>
                </a:solidFill>
                <a:latin typeface="comic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0:06:58Z</dcterms:created>
  <dc:creator>Maggie&amp;Axel</dc:creator>
  <dc:description/>
  <dc:language>en-US</dc:language>
  <cp:lastModifiedBy>Generalitat de Catalunya</cp:lastModifiedBy>
  <dcterms:modified xsi:type="dcterms:W3CDTF">2011-03-20T13:07:51Z</dcterms:modified>
  <cp:revision>2</cp:revision>
  <dc:subject/>
  <dc:title>COMPOSTING</dc:title>
</cp:coreProperties>
</file>